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dt" idx="37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ftr" idx="38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 type="sldNum" idx="39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ED958B-7B53-4AC7-A3F8-60FA9C6AA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chce příjemce předkládat MZ v intervalu po celých měsících (od 1. do 30.) je nutné, abychom mu upravili „hlavičku“ v M7+. Tzn. 5 pracovních dní před skutečných (novým) termínem ukončení monitorovaného období příjemce požádá svého PM O CERA o změnu dat předkládání MZ (mailem). PM potvrdí emailem a upraví v M7+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EEC247-9563-447A-9D84-0B63AAB4B1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ykazované indikátory se musí opírat o průkaznou evidenci vedenou příjemc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Helvetica CE"/>
              </a:rPr>
              <a:t>Výkazy o provedené práci, prezenční listiny, certifikáty, atd. – tj. doklady, kterými můžete prokázat dosažené číselné hodno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0D21A3-33BD-450F-971D-DCFAD6C224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B0CAC-ED99-4AF4-A713-AFAB6037B4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pište, jakým způsobem jste ve sledovaném období informovali cílovou skupinu a širší veřejnost o Vašem projektu a jaké nástroje publicity jste využil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webové strán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ištěn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audiovizuální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filmové materiá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pagační předmě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emináře, k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nzerce v médiích (tisk, TV, rozhlas, internet, ostatní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azné aktivity povinné publicity jsou uvedeny v příloze č. 1 Rozhodnutí o poskytnutí dot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kud je součástí MZ Žádost o platbu, popište náklady spojené s povinnou publicito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1C8C0-B45F-4581-A9EE-DE529E6CEA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07B4DF-AA28-4CAD-9C4D-564814F55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3A2334-2ACE-48B1-9966-09FCFF0B80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4D16CE-A5EB-41BF-90AE-007E3FAECB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6A2881-0F56-4535-9B72-A8781FBE5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963990-DFA0-4FB2-A05C-378BF245AC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měna, která má charakter podstatné změny projektu, nesmí být provedena před jejím schválením poskytovatelem podpory a před provedením úpravy nebo doplněním právního aktu o poskytnutí podp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B1F522-26F2-48C6-9802-074073FD14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5D57CE-EE43-4251-A96F-A48F0BEB1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A5F9D-7CB5-4D2B-AC92-471A2FF67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E6BD35-E2E3-47DB-B750-2DFDCF5ECB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ůběžná monitorovací zpráva se odevzdává do 30 kalendářních dnů od ukončení monitorovacího období (první MZ po 3 měsících, další MZ pak po 6 měsících realizace projektu). Podepsané statutárním zástupcem. V zalepené obálce s adresou poskytovatele, jménem příslušného PM a registračním číslem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ávěrečná monitorovací zpráva se váže k ukončení projektu, tj. k datu, které je uvedeno v právním aktu. Příjemce je následně povinen zpracovat a předložit poskytovateli podpory závěrečnou monitorovací zprávu společně se závěrečnou žádostí o platbu. Předkládá se do 2 měsíců od ukončení projekt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zpráva o udržitelnosti se předkládá 1x ročně po dobu 5 let od ukončení projektu, případně po závaznou dobu udržitelnosti projektu, pokud byla v právním aktu o poskytnutí dotace stanovena odlišně. První monitorovací zpráva o udržitelnosti projektu bude předložena za období 12 měsíců od data ukončení realizace projektu uvedeného v právním aktu, a to nejpozději do 2 měsíců následujících po skončení tohoto období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67FA3-778D-4EC4-B9FA-61BC547B0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76080" y="4686480"/>
            <a:ext cx="541332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E89361-02E6-4BE9-857C-4AC394580D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36C3-8BD3-4581-938C-A8BE7D04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5590-ABBA-4175-9A06-AF58796D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62B10E-2703-43A1-BE81-50172928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C54B5-47C2-4E12-87A4-B4F40658E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9D3EB-25B0-4C25-B1E5-33130D4F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79B9F9-8172-4AF2-9A77-5E4F6CB8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887A0-3380-499E-9C92-00B4A32ED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53E09-E835-40F0-B7D2-4D3871A4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CDE0F-A337-4375-9B93-54F78138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1B8A7-EE2E-41AA-A426-7C7F07B9D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EFF56-0155-49D0-9AF4-31A59E53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5E795-07FB-47AD-BE8B-B56689393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99A-BCD3-45BF-8CDA-F733EAB5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DD757-2134-4FA1-BF38-A48E444E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39432E-EEE5-4317-B836-636D524C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D8A3E9-2193-4560-BFA9-9BEFC801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10CB8C-92B7-4ADA-830C-68E6D1D6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5056A5-551C-4C19-8E1C-25DFEBDBF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2CA96-1187-4DA7-B178-A293D700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E1FCC-7BBE-4A55-AB81-7CE5C51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F06CB4-CEEE-4A29-AB97-1364468D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A1BA3-EDBC-44D2-9742-31469EA16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84364-9D58-443E-A2BF-89EAA307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8B5-2626-477F-ACD5-01F81607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FF61C-2FDF-49FA-82E0-5764F399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E9416E-3A52-44E7-8930-A6DBF8EDC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08CEB-A529-40E3-A576-4B0E2D2A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DB953-6D2E-46FC-AC7D-1160A0D5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1919F-9179-4555-85BE-98BEE0CF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021D8-4FD5-425D-B002-1B34A481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B6D0F-46E8-46EE-B9F4-58C51967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5A135-00E9-4E33-9BB4-6423D709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89FE-3E4B-48E5-BCA3-DD079DF8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721F2-3CC6-43C7-A34E-424ECD37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4B9D-F29D-4DC6-97F6-44A2EF22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BDE47-E46C-4155-9180-A44353416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FECAD-AF14-40D4-AAE6-D8B090CD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B96B0-7C1C-416A-8BB1-5F4A6764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A71CF-463E-4DA8-8322-ED4B138FF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69C02-326E-48A2-96A0-25051CB48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BA0EB-9A9F-49C2-BC07-C4DAE3E3E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457F3-4473-4E41-8005-E8FD9849E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809D16-4488-40BD-8FD0-7D4E1FE9F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484770-7550-4C80-B1D0-401B1BFD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7D6508-D7C3-425E-833F-5426738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741C-D241-4724-99F5-C30DA214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20AD1A-1F85-49FF-9858-21D2A1FB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AE3FDF-71B6-4ABA-A2D8-4B8AB85E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97D33-B5D0-47E5-B9F9-8F3C1218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96975-86E0-4380-B4DC-F2AE16A9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EAA00F-3693-42B2-BF54-B506D8E45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8E40-3D52-431F-B3E4-4F1A583B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000C-E8F8-4ED6-94FE-A2C09C1F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153E-55EC-4938-A0F2-C4D4136A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6873-9F4C-4F11-B5FE-67363C60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7231-1D56-4742-A4F7-A16DAD6B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C03-B68B-4029-83DC-1A658114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B6C5-74BF-4061-9D76-6B31AA64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5F62-059C-4216-8706-9FD7C427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F8CB-2E08-48CB-A7FE-9B2A9D6B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D8475-E0DF-469D-945F-CB40AD072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58F8-FA90-4B90-BE45-1121BCA9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3A746-AAB2-49DE-BD38-000759AF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61F35-FE49-4DB3-8C7C-1AB96611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93F0-B1A9-4CB2-84D4-583963C8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CFA79-3590-48F3-A8C9-0C8CDB00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F71D-32C5-4A1E-9F8E-E0FBBC09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0EAF-ECFB-4105-B014-CB97EF8D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6775D1-45AC-4949-8AD2-14A3B4A3F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FE76E-5FDF-4A46-97BD-62E979A1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0C35F-E3D2-40D7-919A-DE123D8D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7A9AE-54C4-4E94-9563-E4389139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F0E2A-1F5B-4C12-A621-43F2659F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E699C-C08C-4DA2-923A-A2ACF5771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D2112-9B45-44BB-904F-5F143BC8E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BA215-EBD1-4531-AE94-B3EBFAD3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FE0A-16A2-40C5-AFB0-BEE7C9E3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A8918-AA64-4463-8777-C99786DA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92D-DE3E-4BE2-A3FE-D626F091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9A45-3FF6-4A35-84AC-311E339C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ACB97-0EAF-4BCB-8C12-C03593C9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29C8E-0940-4031-8CB7-1B5DA540F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DC34A-2BA4-4287-98BC-81154F95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EB0F26-872C-4904-A4B0-3062A51A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22A69-CB0C-4984-A1EA-65E3756A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D6AF6-0B21-457B-8036-06725730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C6B43-858F-4AD7-87CE-025621867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7B889-2DD1-451C-A2C4-50E01E1D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42CA2-5D27-4E2E-B70D-0D8D4CD3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A9B-DA47-438B-9D2D-0880921E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B1E0E-44AF-45C4-9336-40B62C75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B6A0D-35E0-4117-ACDC-37950136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66F59-1200-42A2-9D0C-9083DB1E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47BD0-8684-4197-9CE3-F1641D7B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F4101-D932-443F-8B82-23C6D11B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95D47-B792-497E-AD93-DC86463E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FBD8C-0473-4F8B-B30B-C945A09D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8F51E-EFA3-4E35-AC1F-49BA642A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BD619-167F-4967-AE75-F81D634C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EE8FD-4901-4488-89C0-85A260161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6BA0-E868-47A4-BF1F-1DDC4BA4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A284F-1D65-45C8-A23F-EA376F90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20DC9-A4D6-4B81-869A-9E5C498CB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DCF3C-3FBF-4301-A3BD-DB0E5AEF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908A3-A693-4129-83FF-21BC4646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4D13-E932-4EA3-AE71-3D87C3CD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25C3-3D6C-4A72-BF85-D8D7C0CA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5F751-D6E6-4581-9923-94F36C093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3B7D73-124F-46BD-B585-DBBB4762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A6022F-5F19-4E3D-9FC2-A5B21FD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06E5-AA2D-420F-9C16-C2C45ACB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E1F1-8A33-41D6-BEEE-21B44851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2896-D5A1-43AF-BCEE-F75AE051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6F1F2-10CD-4E06-9469-7EE3FA032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08C68-CCA9-45F6-9232-E2E1FE4D2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F36DDA-58F8-4C7E-9D7F-011E843F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5A282-8924-4D0D-8ABA-B880032DA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748803-A984-46BD-8D52-AC872DBA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92153-E16A-497D-AA70-356A836E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AE966A-C22A-4948-8295-E13447FA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71690-EAB4-43D8-80ED-997372F7B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5AEE7-2E6E-48FC-A66A-067B2C0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699B-7ECE-47C2-8C42-3DEED941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E7EA4-811B-4D21-8242-6EC81FFF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6A05-B132-4726-BB35-E91A0CB3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77DA9-89A5-46E7-BD0B-2ADD08FD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633BC-ABCA-4D4C-88E4-403C6DE3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0C12C-BF93-43F0-AF5D-10ECD91F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E53AA-887F-4FA1-B18D-E0E7F884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0326F-08D6-4757-A0D1-5A62372E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A90E6-3100-420A-8807-9B1655223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FBE2E4-BA1C-47B6-9A01-FDF476EE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027EF-B972-4096-A174-86AE13F3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259A-98F3-464A-BAFF-5E00C899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6F0ED-5CF1-44F2-ACDD-FAB3B135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4D4F2-F499-4D16-9A2E-D685CA7D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DDDBBC-C6FA-4AED-BCAF-0327501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9C948-4C15-4862-A1E4-CAD98A51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5B52D-2319-4272-8108-EE0A6A03E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A01B2-9158-462F-B151-46FBE05F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530CF-D125-42D8-98A8-21152A362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C01C1-F8DC-4926-9C2D-E6E068D9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6F053-EE8A-4E54-93B4-2EE70E0B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1EEEF-589B-4243-9080-859B44040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5B8322-0F63-4DBC-A00B-06AE2F10F85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765D5A-93C8-4CD5-9742-6EAB36DA8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ABBF2F53-2FB1-4573-99E4-6D46018F2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A59DA-0144-4C1C-820C-0CF1BB1B150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32CA5-7C0B-4BF0-8BB3-190BA55321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4F020C-DD8B-43CF-8E8D-7FFB151F141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5DC9A7-DB23-45F4-B983-73E982551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EEBBD-FD31-4F24-9A52-D343762B71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28F30B-6D95-4FEF-AE4E-3E7B73B22B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24DC8-4727-4246-B90A-000746EF980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37105-A305-4574-AAAB-7BB221C94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78F92C-6ADA-407E-B922-BAD91FCFD65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D23C7E-DC4A-42CB-A165-76F74757F4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8F8BAD-5EF3-4308-8BEC-DE8D5739010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50AAB6-273D-4A73-88B7-943AB2626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C64FD-4FFD-4FC9-AE0F-220A5EC8EE6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D7E2BC-7A2F-4B14-B2F1-DFDE261E50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937519-6D8B-4980-9052-CB40FEC5E49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2726E0-A0CE-490A-9D59-2707584074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FAA6F8-CA5D-40AF-9F0A-A1C2BC229C5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A4EAA-745C-4A4E-A181-B49AF9485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B6A41-FAD7-4246-B528-019EB3AB5BD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1675F4-B930-4B6C-947F-441599D8B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93568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4156B-8D66-488F-93D3-A1B23075BBC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29517B-BC40-48CA-9C9C-556EBCBC04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irucka-pro-prijemce-op-vk-verze-4-platna-od-30-6-2010" TargetMode="External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166840"/>
            <a:ext cx="7772400" cy="17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Seminář pro příjemce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Helvetica CE"/>
              </a:rPr>
              <a:t>finanční podpory z Operačního programu Vzdělávání pro konkurenceschopnost</a:t>
            </a:r>
            <a:br>
              <a:rPr sz="3600"/>
            </a:br>
            <a:br>
              <a:rPr sz="3600"/>
            </a:br>
            <a:r>
              <a:rPr b="1" lang="cs-CZ" sz="2800" spc="-1" strike="noStrike">
                <a:solidFill>
                  <a:srgbClr val="000000"/>
                </a:solidFill>
                <a:latin typeface="Helvetica CE"/>
              </a:rPr>
              <a:t>Veronika Šišperová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053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monitorovacích zpráv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B7E3D1-E75A-4DC6-8C3D-BCC05ADA57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4" name="Picture 5" descr=""/>
          <p:cNvPicPr/>
          <p:nvPr/>
        </p:nvPicPr>
        <p:blipFill>
          <a:blip r:embed="rId1"/>
          <a:stretch/>
        </p:blipFill>
        <p:spPr>
          <a:xfrm>
            <a:off x="1538280" y="1746360"/>
            <a:ext cx="624996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3716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Monitorovací indikátory</a:t>
            </a:r>
            <a:br>
              <a:rPr sz="2400"/>
            </a:b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66084-CB8E-40EF-83F3-04A1656E0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58" name="Picture 7" descr=""/>
          <p:cNvPicPr/>
          <p:nvPr/>
        </p:nvPicPr>
        <p:blipFill>
          <a:blip r:embed="rId1"/>
          <a:srcRect l="0" t="22844" r="0" b="0"/>
          <a:stretch/>
        </p:blipFill>
        <p:spPr>
          <a:xfrm>
            <a:off x="2103480" y="1595520"/>
            <a:ext cx="495756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91872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Dodavatelé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D18944-1654-4720-B96D-0E76F66BDD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7" descr=""/>
          <p:cNvPicPr/>
          <p:nvPr/>
        </p:nvPicPr>
        <p:blipFill>
          <a:blip r:embed="rId1"/>
          <a:srcRect l="0" t="20531" r="0" b="0"/>
          <a:stretch/>
        </p:blipFill>
        <p:spPr>
          <a:xfrm>
            <a:off x="2255760" y="1459080"/>
            <a:ext cx="44514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96948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A4C8D-49F9-4676-9E84-F0F66B6E5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66" name="Picture 8" descr=""/>
          <p:cNvPicPr/>
          <p:nvPr/>
        </p:nvPicPr>
        <p:blipFill>
          <a:blip r:embed="rId1"/>
          <a:srcRect l="0" t="18774" r="0" b="0"/>
          <a:stretch/>
        </p:blipFill>
        <p:spPr>
          <a:xfrm>
            <a:off x="2475000" y="1373040"/>
            <a:ext cx="4211640" cy="44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329840" y="929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Výběrová řízení - detail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9E1BAB-7F1D-40EF-9B79-6545BB6FBB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"/>
          <p:cNvPicPr/>
          <p:nvPr/>
        </p:nvPicPr>
        <p:blipFill>
          <a:blip r:embed="rId1"/>
          <a:srcRect l="0" t="0" r="0" b="46962"/>
          <a:stretch/>
        </p:blipFill>
        <p:spPr>
          <a:xfrm>
            <a:off x="588960" y="1415880"/>
            <a:ext cx="4151160" cy="31132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6" descr=""/>
          <p:cNvPicPr/>
          <p:nvPr/>
        </p:nvPicPr>
        <p:blipFill>
          <a:blip r:embed="rId2"/>
          <a:srcRect l="0" t="67407" r="0" b="0"/>
          <a:stretch/>
        </p:blipFill>
        <p:spPr>
          <a:xfrm>
            <a:off x="4556160" y="3852720"/>
            <a:ext cx="43736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71600" y="968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ublicita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2BA94-B48C-489F-A82A-10133E836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"/>
          <p:cNvPicPr/>
          <p:nvPr/>
        </p:nvPicPr>
        <p:blipFill>
          <a:blip r:embed="rId1"/>
          <a:srcRect l="0" t="28022" r="0" b="0"/>
          <a:stretch/>
        </p:blipFill>
        <p:spPr>
          <a:xfrm>
            <a:off x="2152800" y="1535040"/>
            <a:ext cx="54417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330200" y="110916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líčové aktivity projektu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1A0D0B-4AA5-4353-B462-B9F69AC9A4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rcRect l="0" t="25624" r="0" b="0"/>
          <a:stretch/>
        </p:blipFill>
        <p:spPr>
          <a:xfrm>
            <a:off x="351000" y="1490760"/>
            <a:ext cx="4505040" cy="36036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4543560" y="3409920"/>
            <a:ext cx="56880" cy="381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0" descr=""/>
          <p:cNvPicPr/>
          <p:nvPr/>
        </p:nvPicPr>
        <p:blipFill>
          <a:blip r:embed="rId3"/>
          <a:stretch/>
        </p:blipFill>
        <p:spPr>
          <a:xfrm>
            <a:off x="4600440" y="2498760"/>
            <a:ext cx="441180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3716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 </a:t>
            </a: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Harmonogram klíčových aktivit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73C132-028B-49ED-953C-36A3B2571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rcRect l="0" t="30100" r="0" b="0"/>
          <a:stretch/>
        </p:blipFill>
        <p:spPr>
          <a:xfrm>
            <a:off x="2008080" y="1531800"/>
            <a:ext cx="5578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371600" y="97956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Kontroly na místě 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6A5C18-6BC5-4601-B0C7-4C107A04F9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88" name="Picture 6" descr=""/>
          <p:cNvPicPr/>
          <p:nvPr/>
        </p:nvPicPr>
        <p:blipFill>
          <a:blip r:embed="rId1"/>
          <a:srcRect l="0" t="21759" r="0" b="0"/>
          <a:stretch/>
        </p:blipFill>
        <p:spPr>
          <a:xfrm>
            <a:off x="2381400" y="1414440"/>
            <a:ext cx="4849560" cy="44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330200" y="966600"/>
            <a:ext cx="6283440" cy="56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Změny v monitorovací zprávě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0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3D6BB-BA1C-4A20-9501-646E8CA7D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1"/>
          <a:stretch/>
        </p:blipFill>
        <p:spPr>
          <a:xfrm>
            <a:off x="2033640" y="1433520"/>
            <a:ext cx="50436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aháj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akceptace Rozhodnutí o poskytnutí dotac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b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zdější datum uvedené v projektové žád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Ukončení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tum uvedené v právním a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F907A2-5A5E-49A4-98C7-DE76B007E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330200" y="995400"/>
            <a:ext cx="62834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Přílohy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738BE-AB7B-4E8C-AB67-E9B29182F3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2666880" y="1430280"/>
            <a:ext cx="344016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Přílohy k Monitorovací zprávě</a:t>
            </a: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05F30C-9B15-4ECB-883F-340BA1F0E7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71600" y="675360"/>
            <a:ext cx="628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371600" y="1382760"/>
            <a:ext cx="6283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Čestné prohlášení statutárního zástupce jako pevná součást tištěné verze monitorovací zprávy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Podpisový vzor osob oprávněných k podepisování a schvalování dokumentů a operací v rámci projektu OP V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3706A1-AC5C-49DD-B576-3EADA3371E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792440" y="480816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20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cs-CZ" sz="1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6" name="Zástupný symbol pro číslo snímku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6712D5-B82E-44C7-B233-7DFDEC7F01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8" descr=""/>
          <p:cNvPicPr/>
          <p:nvPr/>
        </p:nvPicPr>
        <p:blipFill>
          <a:blip r:embed="rId2"/>
          <a:stretch/>
        </p:blipFill>
        <p:spPr>
          <a:xfrm>
            <a:off x="633240" y="1212840"/>
            <a:ext cx="770904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alší zdro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Web MŠMT – sekce Strukturální fondy – OP VK – Pro žadatele a příjemce – Příručka pro příjemce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Helvetica CE"/>
                <a:hlinkClick r:id="rId1"/>
              </a:rPr>
              <a:t>http://www.msmt.cz/strukturalni-fondy/prirucka-pro-prijemce-op-vk-verze-4-platna-od-30-6-2010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radenství 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6CB72-0C63-443A-89DD-2D18D952C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ěkuji za pozorn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Ing. Veronika Šišperová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eronika.sisperova@msmt.cz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3B4D1-4A24-4247-807D-D603AF166E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Doba realizace projektu</a:t>
            </a:r>
            <a:br>
              <a:rPr sz="28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měna data ukonče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statná změna projektu.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žná pouze v řádně odůvodněných a schválených případech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Způsobilé výdaje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Od data zahájení projektu do data ukončení projektu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 datu ukončení pouze výdaje bezprostředně související s realizací projektu např. audit projektu, mzdy pracovníků projektu, kteří uzavírají projekt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9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DF330-C0CC-4E9C-AD3E-490200F9F0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Pravidla monitorování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f3912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3912c"/>
                </a:solidFill>
                <a:latin typeface="Helvetica CE"/>
              </a:rPr>
              <a:t>Monitorovací zprá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ůběž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ávěrečná monitorovací zpráva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457200" algn="just"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onitorovací zpráva o udržitelnosti.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2084A-E25A-488B-A76C-D2D8F88ED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Helvetica CE"/>
              </a:rPr>
              <a:t>Věcná část Monitorovací zprávy</a:t>
            </a:r>
            <a:br>
              <a:rPr sz="4800"/>
            </a:br>
            <a:endParaRPr b="1" lang="en-US" sz="4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371600" y="1816200"/>
            <a:ext cx="628344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9916C1-27E3-4E00-957B-7F952A6E8D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329840" y="124632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Helvetica CE"/>
              </a:rPr>
              <a:t>Elektronická monitorovací zpráv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edkládá se prostřednictvím aplikace Benefit 7+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říručka pro vytvoření monitorovací zprávy v B7+  s technický i metodickým postupem bude uveřejněna na webu MŠMT na přelomu měsíce ledna a únor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Další informace (struktura, přílohy) k předkládání elektronické monitorovací zprávy budou uveřejněny na webu MŠMT ve stejné době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89287-AFBB-4530-BADF-221AF5D29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DC87A-1130-406D-A8D7-573559E53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2" descr=""/>
          <p:cNvPicPr/>
          <p:nvPr/>
        </p:nvPicPr>
        <p:blipFill>
          <a:blip r:embed="rId1"/>
          <a:srcRect l="2724" t="11681" r="3377" b="10612"/>
          <a:stretch/>
        </p:blipFill>
        <p:spPr>
          <a:xfrm>
            <a:off x="642960" y="1158840"/>
            <a:ext cx="7651800" cy="46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0280" y="966960"/>
            <a:ext cx="7815240" cy="56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rojektu a monitorovací zprávě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5A316-664A-49AF-AF5C-8C3B42893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"/>
          <p:cNvPicPr/>
          <p:nvPr/>
        </p:nvPicPr>
        <p:blipFill>
          <a:blip r:embed="rId1"/>
          <a:srcRect l="0" t="0" r="0" b="32472"/>
          <a:stretch/>
        </p:blipFill>
        <p:spPr>
          <a:xfrm>
            <a:off x="369720" y="1392120"/>
            <a:ext cx="4759560" cy="4006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6" descr=""/>
          <p:cNvPicPr/>
          <p:nvPr/>
        </p:nvPicPr>
        <p:blipFill>
          <a:blip r:embed="rId2"/>
          <a:srcRect l="0" t="67243" r="0" b="0"/>
          <a:stretch/>
        </p:blipFill>
        <p:spPr>
          <a:xfrm>
            <a:off x="3886200" y="3591000"/>
            <a:ext cx="509112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3912c"/>
                </a:solidFill>
                <a:latin typeface="Helvetica CE"/>
              </a:rPr>
              <a:t>Údaje o příjemci, kontaktní osobě a zhotoviteli monitorovací zprávy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7CEFC-BD3C-4ABB-9D44-36E54606AF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"/>
          <p:cNvPicPr/>
          <p:nvPr/>
        </p:nvPicPr>
        <p:blipFill>
          <a:blip r:embed="rId1"/>
          <a:srcRect l="0" t="0" r="0" b="30166"/>
          <a:stretch/>
        </p:blipFill>
        <p:spPr>
          <a:xfrm>
            <a:off x="465120" y="1746360"/>
            <a:ext cx="4788000" cy="34574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6" descr=""/>
          <p:cNvPicPr/>
          <p:nvPr/>
        </p:nvPicPr>
        <p:blipFill>
          <a:blip r:embed="rId2"/>
          <a:srcRect l="0" t="73928" r="0" b="0"/>
          <a:stretch/>
        </p:blipFill>
        <p:spPr>
          <a:xfrm>
            <a:off x="4151160" y="4332240"/>
            <a:ext cx="4803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8T07:29:04Z</dcterms:modified>
  <cp:revision>295</cp:revision>
  <dc:subject/>
  <dc:title>Titulní strana – Titulek</dc:title>
</cp:coreProperties>
</file>